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A07E-3C30-4F2E-A1BA-E2A99F22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526-58F8-4654-A197-2E55DBD4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to read this slid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286A-0F8F-4435-B13E-6D231F6EB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950-9576-4C32-9980-2F01354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A57-10ED-45AC-BC03-4F39C89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A6320-ABC3-4114-BAFF-65044A16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A573-3911-4664-80E6-FE9C946C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A783E-3AD1-46D6-8D5C-DAB0DE9E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CFA4-FF68-4FF2-BBE9-FD31F3F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EBEC9-A28E-47B1-B4BF-175B308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7CA5B-1EA2-4A69-8F58-41BCFF13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23F7B-5529-4250-AB0A-D5FA3E02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7AA6B-8B10-4A0A-9B7B-A5DB4813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C4290-E411-4684-A909-A34EB59E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32612-0EC9-4ECE-9569-F646BC12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B3A-BCEE-420C-9ECE-8832BED8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6B5C-4CA5-4DD6-A9C9-88341FF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7B822-80CF-44BB-851B-51CC9815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08387-1162-4F40-8F13-6607D25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3DA78-235A-4C57-86D6-BBFAC58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905C-B42C-458C-99B0-3AC6FCEF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492A6-6D26-4730-A1A4-F3A3DAC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4FBB0-0BC6-48FD-8299-B059968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D8B69-D1FF-4E20-B315-DC2974ED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729B5-0170-4961-B707-0258E427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DB61C-EC8A-49C8-84DC-E7CE2390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387-E1A4-4B2D-A1FD-E5462EF1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A12FE-D74B-46B9-B75B-E9F1D1DD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1F7DE-0F15-468C-AD93-6A4B5D7D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E038A-03A8-4CE3-A2CC-3F52598B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D7DC2-5AFD-4E4A-99D6-918AE6E6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63C17-F0FB-4027-B63C-E769AB8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73F73-297C-4130-9AD3-948ED198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D3927-8F78-4376-9BE3-214D5A2E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3FDC7-D873-4F6E-A5C5-BE8FFFA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55A50-6B9C-47BA-8BBE-689B60D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2D404-D973-44EE-97EB-D8C3971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F46C-2928-4249-B591-A5FE34BA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FFF45-705B-4B00-B7F9-7EA8F31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D4825-B1CC-4DB9-AD0E-4C5F6282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3506D-C4D8-4369-9449-E12D83EF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46BC2-5A72-4AA8-9B89-5C2D2F28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B3B42-08DB-4A12-B618-4761B17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F7FAD-4CA4-4D7A-B2CE-595349D8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52FB3-F255-4B36-AC43-19718B84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AE547-80C0-431E-BED7-5067B5D3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C653B-8600-456B-B488-2241A76F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44CB4-40BB-44D5-AE77-C6A10E5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EB11-0021-4D3E-A1F0-EF748888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61D58-F3AC-4611-BE79-8BC4D51D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25CC3-A02D-4E65-A2E8-CF9D0F5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8E110-F75D-486E-AEC2-3AA4492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56ACC-D53B-4060-BAB0-9F3D821F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9BE04-2EB2-407F-A03D-63265B98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29624-7AC2-4882-8011-B1D9972F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1A469-9251-49B1-8EAF-AD288AB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3A5E7-C0C2-4ED7-939A-ACC64046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8BD63-1B44-41EC-9800-4897563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6914C-DAD7-4D8B-891E-CE68CE5E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C22-5BC2-4064-A3FD-5103AEAD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D82E8-A227-4B17-BA85-B84C5B15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A51D2-3EFA-47F1-A4DC-78B1D63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569E1-7945-4A52-9648-47A57A2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BE67F-055F-41B6-84A0-334BF38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42CF6-2E6C-4158-8C7E-5328B2B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C3519-B105-44E5-AEEA-9330D33B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5C335-B2D4-4C25-A3CD-02E3C4C1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E544-6652-4BCD-9E19-C3750FD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D01-7D3A-420C-82A9-E1F5FF47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8220-3845-4197-B70D-867410DB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7FD1-1674-460C-B2B1-F5B7C4F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356-D36C-4968-91CB-798302AA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CB61-5C55-4195-8EAB-20B9162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49E4-30DB-42B4-B2F3-92EDCC3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8304-19F4-47A9-93E3-B989A980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D79A-0700-4C72-AA1C-B0A11522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70B3-F439-473C-A110-43B8FB85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C59C-AD60-45C1-A5DC-646DB75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8BE1-A421-49F3-AF5E-081D0690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F2D3-FB14-4F81-B253-605A2DA0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A0E1-4117-4333-A30C-4E934E3E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3BD2-4931-45EF-B50F-906B9386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674-AA97-468F-832F-91FBEDB7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C952-F33F-4389-A9EE-99951318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9F4A-CF4D-403E-A3C8-6DB380D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3818-A706-4318-A6D7-44B07C9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4077-1135-4977-93A2-1B8BEEF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9882-3AFA-4BF5-AAC7-CAFD637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A432-4DE8-4876-AA5A-45CA032E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58E1-FB66-41E8-B33A-E3EB00E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1C3C-D2DD-4985-91C6-95D54175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80B5-FCE4-4EF9-933E-9481EB9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4040-8ABA-4B24-B74D-99A69693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0A2-0648-4F50-9389-A1BF994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B529-9055-48F7-827B-45EC4FA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8126-6F5A-4BE5-B6E6-1159BF5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756F-C5A9-4609-811C-A216765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1C7E-A1AE-450C-98E3-EA02C99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62BC-E66B-438A-854E-B55A9E6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DA619-E62C-416D-B87D-EDB0908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DC0F-4F7A-46B3-9E11-63F40D3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1907-EE1D-4806-A535-5F5D03FF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9F7A-2FC7-495A-B298-85708188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D8D66-031E-4830-B736-21677323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1F4-89F8-4916-BFA2-A99F4CD3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5BBA-FC0B-47D4-9F7C-2B6B9E2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77AE-A024-4508-B557-7ABDD0D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C174B-E4C8-427B-A287-B2768BC8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60E7-0562-41AD-9A82-DCECC2C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F1AA-1502-4034-BCDC-D75283F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CF9C-E76A-4CE9-BAF3-5D65564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731DC-B6EF-45DF-B076-BB1325B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1E9D-6EB0-463C-B86C-4AE0CA2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C408-1161-4260-8E83-775E6B8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FB5D2-D647-4FC2-AAC2-6967A947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F08-80DD-4D1C-BBFA-3A0AFE34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B2A7-66FD-451B-AAD6-75370989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DF083-C4AC-4D6B-AB1E-7BEC3F47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D275-6C57-4FF7-911B-62F00C1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8E480-7CD3-4F29-ABA3-987B2CFB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D7C0-CED7-4C82-8542-4A7201B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DD76-7848-4141-8EA0-DC4350D5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B3DF-6358-4C07-93D7-F513758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972E-E9FD-4124-B943-4EF5B96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3261-38F5-4B7C-90AE-238AD5F7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AB6E-507A-4950-B763-169F842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19A-67D0-47B8-BFE0-7227E81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B77A-F3E3-41D3-8E03-8626E15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A3CA-7F14-4E40-A8E3-FB8AAEFE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AB01F-55EE-4AB0-B0FD-36F9A645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4388-70D5-4476-8F78-D07E30E7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D92BA-32D7-44C7-911D-EB572441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85FB-BD5F-4DF1-9E0C-21FEFE36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05BBC-7B12-4B42-94E3-A8E8348F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0F4FA-E175-4217-AE31-1535868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2A09-4521-47B6-9131-F993C62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49CD-FD47-4313-98EB-99F4C1D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FFB-6F2D-4475-9B7E-3723993E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E232-5DAF-4928-885E-6990E88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71CC-075F-4CCD-B8F8-0DE9D4F8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CB36-BA18-4E41-99CC-BBCCE75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FB197-0F6A-4C2A-BAF4-4847A88C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2C0F-0FF8-4285-AA3F-3CDE06BA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2EFC2-4685-470B-A77E-1047C869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0FD0-3FD4-4179-AE2A-062C0416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429B9-EA25-44D9-89E7-FCBC10F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53DDE-A7D2-487A-B270-163553B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199B-FE78-46D7-AEC1-E3547D31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51F-4333-432C-A400-B3DE556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A4505-E400-4852-A644-996C2CE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4FD8B-8A85-4CB1-B5EA-D3B9826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5EDD-DAAF-4A7C-94F5-A967B3F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A116B-B7BB-46FA-A7E2-E3D1D40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57194-4239-4DB4-97A2-0248A9D6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77D8A-3293-4064-A628-1A54B3F3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A2F0D-7A80-4502-8706-EA9DBD75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1E548-0E0D-41FA-AF53-EB5726C5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C8B5F-EA04-483D-8521-2E2B377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E1667-483F-47F1-A9E5-33330F6A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F11-CCCC-4D2D-882B-22351F0E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BBB-F27B-40FC-AB9A-72C558A4017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3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3B6-D4F7-482C-A771-DA8AF8ECF990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5AEA-7FC4-4215-840A-B3B3B48C1228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20D-E386-4ACD-94AE-997482FB65FA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39BD-1EDA-4E84-99E8-D33BBA00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4511-8DDF-4004-8F20-B6C026E7582A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965-D373-443D-B7EC-A2A2FC50A8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9A36-6490-4955-8951-59B8A50B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4660-0E09-4E7A-B260-4D8513F22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9438-CE71-494B-853F-7C47CA3BD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4C7-1B70-4F66-BF03-6CEC457C0E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B7DB-D460-4D10-819A-3F3BD82E1A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&#233;ctor_Abad_Faciolince" TargetMode="External"/><Relationship Id="rId2" Type="http://schemas.openxmlformats.org/officeDocument/2006/relationships/hyperlink" Target="http://daytranslations.com/famous_colombians.aspx" TargetMode="External"/><Relationship Id="rId3" Type="http://schemas.openxmlformats.org/officeDocument/2006/relationships/hyperlink" Target="http://en.wikipedia.org/wiki/Andes" TargetMode="External"/><Relationship Id="rId4" Type="http://schemas.openxmlformats.org/officeDocument/2006/relationships/hyperlink" Target="http://en.wikipedia.org/wiki/Amazon_Rainforest" TargetMode="External"/><Relationship Id="rId5" Type="http://schemas.openxmlformats.org/officeDocument/2006/relationships/hyperlink" Target="http://wikitravel.org/en/El_Parque_Tayrona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mb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nnah Staska and Amanda Va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ame in th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to Colo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rought Catholicism and African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s and indigenous people of Colombia mixed to form to form zambos creating a new ethno- racial group i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%C3%A9ctor_Abad_Facioli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aytranslations.com/famous_colombians.asp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An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Amazon_Rainfor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ikitravel.org/en/El_Parque_Tayr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Gabriel_Garc%C3%ADa_M%C3%A1r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Santiago_Gamb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opulation.mongabay.com/population/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veryculture.com/wc/Brazil-to-Congo-Republic-of/Columbia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Tourism_in_Colombia http://en.wikipedia.org/wiki/Government_of_Colom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n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Weasel- an endangered species. Weighs approximately 138 g. They live clos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ton Top Tamarin- Weighs about 1 pound. Found nea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Squirrel Monkey- Exhibits grayish- brown coloration with a very pale orange ti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Colombian Weasel.jpg"/>
          <p:cNvPicPr/>
          <p:nvPr/>
        </p:nvPicPr>
        <p:blipFill>
          <a:blip r:embed="rId2"/>
          <a:stretch/>
        </p:blipFill>
        <p:spPr>
          <a:xfrm>
            <a:off x="914400" y="4724280"/>
            <a:ext cx="1765440" cy="1276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otton Top Tamarin.jpg"/>
          <p:cNvPicPr/>
          <p:nvPr/>
        </p:nvPicPr>
        <p:blipFill>
          <a:blip r:embed="rId3"/>
          <a:stretch/>
        </p:blipFill>
        <p:spPr>
          <a:xfrm>
            <a:off x="4114800" y="4724280"/>
            <a:ext cx="1219320" cy="123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quirrel Monkey.jpg"/>
          <p:cNvPicPr/>
          <p:nvPr/>
        </p:nvPicPr>
        <p:blipFill>
          <a:blip r:embed="rId4"/>
          <a:stretch/>
        </p:blipFill>
        <p:spPr>
          <a:xfrm>
            <a:off x="6781680" y="4648320"/>
            <a:ext cx="114300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briel Garcia Marquez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wrote the novel, “One Hundred Years of Solitude”, in 1967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ntiago Gamboa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uthor of the travel book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ctubre en Pekin(October in Pekin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èctor Abad Faciolince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ad is best known for his novel,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Angos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gotà        Pop: 7,102,6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            Pop: 2,392,87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ellín     Pop: 1,999,97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ogotà                                     Cali                                 Medellí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0" name="Picture 4" descr="Bogota.jpg"/>
          <p:cNvPicPr/>
          <p:nvPr/>
        </p:nvPicPr>
        <p:blipFill>
          <a:blip r:embed="rId2"/>
          <a:stretch/>
        </p:blipFill>
        <p:spPr>
          <a:xfrm>
            <a:off x="7621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Cali Colombia.jpg"/>
          <p:cNvPicPr/>
          <p:nvPr/>
        </p:nvPicPr>
        <p:blipFill>
          <a:blip r:embed="rId3"/>
          <a:stretch/>
        </p:blipFill>
        <p:spPr>
          <a:xfrm>
            <a:off x="3048120" y="4572000"/>
            <a:ext cx="2409840" cy="1625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medellin.jpg"/>
          <p:cNvPicPr/>
          <p:nvPr/>
        </p:nvPicPr>
        <p:blipFill>
          <a:blip r:embed="rId4"/>
          <a:stretch/>
        </p:blipFill>
        <p:spPr>
          <a:xfrm>
            <a:off x="5791320" y="4800600"/>
            <a:ext cx="2023920" cy="133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ccer is the most popular sport b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re are many other sports played. There is not a specific one for 2 &amp; 3. Two other sports are cycling and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y/Top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s Mountain Range- worlds longest continental mountain range. Continental range of highlands along the West Coast of South America. 7,000 km long (4,300 m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zon Rainforest- only a little part of the rainforest is found in Colombia. It is believed to have formed in the Eocene 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anos- A vast tropical grassland plain. It is east of the Andes Mountains. In northwest South America, especially Colombia and Venezu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Content Placeholder 3" descr="Colombian Natiional Coffee Park.jpg"/>
          <p:cNvPicPr/>
          <p:nvPr/>
        </p:nvPicPr>
        <p:blipFill>
          <a:blip r:embed="rId1"/>
          <a:stretch/>
        </p:blipFill>
        <p:spPr>
          <a:xfrm>
            <a:off x="762120" y="1905120"/>
            <a:ext cx="1761840" cy="1838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Bogota botanical gardens.jpg"/>
          <p:cNvPicPr/>
          <p:nvPr/>
        </p:nvPicPr>
        <p:blipFill>
          <a:blip r:embed="rId2"/>
          <a:stretch/>
        </p:blipFill>
        <p:spPr>
          <a:xfrm>
            <a:off x="4991040" y="17524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Gold Museum.jpg"/>
          <p:cNvPicPr/>
          <p:nvPr/>
        </p:nvPicPr>
        <p:blipFill>
          <a:blip r:embed="rId3"/>
          <a:stretch/>
        </p:blipFill>
        <p:spPr>
          <a:xfrm>
            <a:off x="2819520" y="396252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6"/>
          <p:cNvSpPr/>
          <p:nvPr/>
        </p:nvSpPr>
        <p:spPr>
          <a:xfrm>
            <a:off x="685800" y="4038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National Coffe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2819520" y="5943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Museum in Bogo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5943600" y="39625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gotà Botanical Ga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Content Placeholder 3" descr="Colombian Flag.jpg"/>
          <p:cNvPicPr/>
          <p:nvPr/>
        </p:nvPicPr>
        <p:blipFill>
          <a:blip r:embed="rId1"/>
          <a:stretch/>
        </p:blipFill>
        <p:spPr>
          <a:xfrm>
            <a:off x="609480" y="2101680"/>
            <a:ext cx="2676600" cy="1784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Colombia Map.gif"/>
          <p:cNvPicPr/>
          <p:nvPr/>
        </p:nvPicPr>
        <p:blipFill>
          <a:blip r:embed="rId2"/>
          <a:stretch/>
        </p:blipFill>
        <p:spPr>
          <a:xfrm>
            <a:off x="6172200" y="2209680"/>
            <a:ext cx="2509920" cy="2697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Colombian Coat.jpg"/>
          <p:cNvPicPr/>
          <p:nvPr/>
        </p:nvPicPr>
        <p:blipFill>
          <a:blip r:embed="rId3"/>
          <a:stretch/>
        </p:blipFill>
        <p:spPr>
          <a:xfrm>
            <a:off x="3505320" y="3962520"/>
            <a:ext cx="2097000" cy="2160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of Colo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iberal democracy with separation of powers into executive, judicial, and legislative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25:46Z</dcterms:created>
  <dc:creator>User</dc:creator>
  <dc:description/>
  <dc:language>en-US</dc:language>
  <cp:lastModifiedBy>954381</cp:lastModifiedBy>
  <dcterms:modified xsi:type="dcterms:W3CDTF">2011-02-11T20:03:21Z</dcterms:modified>
  <cp:revision>21</cp:revision>
  <dc:subject/>
  <dc:title>Colombia!</dc:title>
</cp:coreProperties>
</file>